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1879560" y="800280"/>
            <a:ext cx="92455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0580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813168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187956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500580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813168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1879560" y="800280"/>
            <a:ext cx="92455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0580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13168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87956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500580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13168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00580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813168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187956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500580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813168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1879560" y="800280"/>
            <a:ext cx="92455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00580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813168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187956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500580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813168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1879560" y="800280"/>
            <a:ext cx="92455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00580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813168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187956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500580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813168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879560" y="800280"/>
            <a:ext cx="92455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0580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13168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87956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500580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813168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879560" y="800280"/>
            <a:ext cx="92455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0580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13168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187956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500580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813168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1879560" y="800280"/>
            <a:ext cx="92455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00580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13168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187956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500580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813168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1879560" y="800280"/>
            <a:ext cx="92455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879560" y="800280"/>
            <a:ext cx="92455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0580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13168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187956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500580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813168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879560" y="800280"/>
            <a:ext cx="92455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0580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13168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187956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500580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813168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879560" y="800280"/>
            <a:ext cx="92455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00580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13168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87956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500580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813168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1879560" y="800280"/>
            <a:ext cx="92455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00580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13168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187956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500580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813168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396800" y="5765400"/>
            <a:ext cx="1021068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3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1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2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3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4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5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6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1879560" y="262872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57000"/>
          </a:bodyPr>
          <a:p>
            <a:pPr marL="483840" indent="-32472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1" marL="678240" indent="-3020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2" marL="872280" indent="-278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3" marL="1103760" indent="-278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4" marL="1320840" indent="-278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5" marL="1320840" indent="-278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6" marL="1320840" indent="-278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91880" y="1854360"/>
            <a:ext cx="5918040" cy="302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1219320" y="5549400"/>
            <a:ext cx="5651280" cy="1435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1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2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3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4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5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6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5"/>
          <a:stretch/>
        </p:blipFill>
        <p:spPr>
          <a:xfrm>
            <a:off x="1409760" y="4775040"/>
            <a:ext cx="52830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body"/>
          </p:nvPr>
        </p:nvSpPr>
        <p:spPr>
          <a:xfrm>
            <a:off x="1879560" y="1599840"/>
            <a:ext cx="9245520" cy="62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5000"/>
          </a:bodyPr>
          <a:p>
            <a:pPr marL="765000" indent="-484200">
              <a:spcBef>
                <a:spcPts val="2701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1" marL="1054800" indent="-450360">
              <a:spcBef>
                <a:spcPts val="2701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2" marL="1343880" indent="-415440">
              <a:spcBef>
                <a:spcPts val="2701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3" marL="1689120" indent="-415440">
              <a:spcBef>
                <a:spcPts val="2701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4" marL="2013120" indent="-415440">
              <a:spcBef>
                <a:spcPts val="2701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5" marL="2013120" indent="-415440">
              <a:spcBef>
                <a:spcPts val="2701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6" marL="2013120" indent="-415440">
              <a:spcBef>
                <a:spcPts val="2701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4000"/>
          </a:bodyPr>
          <a:p>
            <a:pPr marL="713160" indent="-4784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1" marL="999720" indent="-44532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2" marL="1285200" indent="-41040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3" marL="1626840" indent="-41040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4" marL="1946520" indent="-41040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5" marL="1946520" indent="-41040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6" marL="1946520" indent="-41040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879560" y="2527200"/>
            <a:ext cx="9245520" cy="444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57400" y="6426000"/>
            <a:ext cx="888984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861320" y="2628720"/>
            <a:ext cx="326376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46000"/>
          </a:bodyPr>
          <a:p>
            <a:pPr marL="390600" indent="-26208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1" marL="547560" indent="-24372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2" marL="703800" indent="-224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3" marL="890640" indent="-224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4" marL="1065960" indent="-224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5" marL="1065960" indent="-224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6" marL="1065960" indent="-224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1879560" y="262872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57000"/>
          </a:bodyPr>
          <a:p>
            <a:pPr marL="483840" indent="-32472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1" marL="678240" indent="-3020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2" marL="872280" indent="-278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3" marL="1103760" indent="-278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4" marL="1320840" indent="-278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5" marL="1320840" indent="-278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6" marL="1320840" indent="-278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4000"/>
          </a:bodyPr>
          <a:p>
            <a:pPr marL="713160" indent="-4784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1" marL="999720" indent="-44532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2" marL="1285200" indent="-41040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3" marL="1626840" indent="-41040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4" marL="1946520" indent="-41040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5" marL="1946520" indent="-41040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6" marL="1946520" indent="-41040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teel.org/Content/NavigationMenu/ConsumerResources/SteelinYourLife/Steel_in_Your_Life.htm" TargetMode="External"/><Relationship Id="rId2" Type="http://schemas.openxmlformats.org/officeDocument/2006/relationships/hyperlink" Target="http://www.chemicalelements.com/" TargetMode="External"/><Relationship Id="rId3" Type="http://schemas.openxmlformats.org/officeDocument/2006/relationships/hyperlink" Target="http://www.chemicalelements.com/elements/fe.html" TargetMode="External"/><Relationship Id="rId4" Type="http://schemas.openxmlformats.org/officeDocument/2006/relationships/hyperlink" Target="http://www.chemicalelements.com/elements/fe.html" TargetMode="External"/><Relationship Id="rId5" Type="http://schemas.openxmlformats.org/officeDocument/2006/relationships/hyperlink" Target="http://www.chemicalelements.com/elements/fe.html" TargetMode="External"/><Relationship Id="rId6" Type="http://schemas.openxmlformats.org/officeDocument/2006/relationships/hyperlink" Target="http://www.chemicalelements.com/elements/fe.html" TargetMode="External"/><Relationship Id="rId7" Type="http://schemas.openxmlformats.org/officeDocument/2006/relationships/hyperlink" Target="http://www.chemicalelements.com/elements/fe.html" TargetMode="External"/><Relationship Id="rId8" Type="http://schemas.openxmlformats.org/officeDocument/2006/relationships/hyperlink" Target="http://www.chemicalelements.com/elements/fe.html" TargetMode="External"/><Relationship Id="rId9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1396800" y="5765400"/>
            <a:ext cx="1021068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67f5ff"/>
                </a:solidFill>
                <a:latin typeface="Party LET"/>
                <a:ea typeface="Party LET"/>
              </a:rPr>
              <a:t>Iron:Fe</a:t>
            </a:r>
            <a:endParaRPr b="0" lang="en-US" sz="14400" spc="-1" strike="noStrike">
              <a:solidFill>
                <a:srgbClr val="000000"/>
              </a:solidFill>
              <a:latin typeface="Savoye LET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949400" y="915840"/>
            <a:ext cx="8487000" cy="459756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5245200" y="2324160"/>
            <a:ext cx="495360" cy="558720"/>
          </a:xfrm>
          <a:prstGeom prst="ellipse">
            <a:avLst/>
          </a:prstGeom>
          <a:noFill/>
          <a:ln w="50760">
            <a:solidFill>
              <a:srgbClr val="2ef1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1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2319480" y="1486080"/>
            <a:ext cx="7319880" cy="568944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2108160" y="4863960"/>
            <a:ext cx="281952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" descr=""/>
          <p:cNvPicPr/>
          <p:nvPr/>
        </p:nvPicPr>
        <p:blipFill>
          <a:blip r:embed="rId1"/>
          <a:stretch/>
        </p:blipFill>
        <p:spPr>
          <a:xfrm>
            <a:off x="2685960" y="1066680"/>
            <a:ext cx="6642360" cy="659304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/>
          <p:nvPr/>
        </p:nvSpPr>
        <p:spPr>
          <a:xfrm>
            <a:off x="2554200" y="7562880"/>
            <a:ext cx="8242560" cy="18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f0"/>
                </a:solidFill>
                <a:latin typeface="Party LET"/>
                <a:ea typeface="Party LET"/>
              </a:rPr>
              <a:t>Structure of atom</a:t>
            </a:r>
            <a:endParaRPr b="0" lang="en-US" sz="96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879560" y="431280"/>
            <a:ext cx="9245520" cy="151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474aff"/>
                </a:solidFill>
                <a:latin typeface="Party LET"/>
              </a:rPr>
              <a:t>Isotopes,  Ions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536840" y="3377880"/>
            <a:ext cx="9245520" cy="740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900000" indent="-5698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2ff00"/>
                </a:solidFill>
                <a:latin typeface="Savoye LET"/>
              </a:rPr>
              <a:t>Fe-57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marL="900000" indent="-5698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2ff00"/>
                </a:solidFill>
                <a:latin typeface="Savoye LET"/>
              </a:rPr>
              <a:t>Fe-58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marL="900000" indent="-5698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2ff00"/>
                </a:solidFill>
                <a:latin typeface="Savoye LET"/>
              </a:rPr>
              <a:t>Fe-59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marL="900000" indent="-5698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2ff00"/>
                </a:solidFill>
                <a:latin typeface="Savoye LET"/>
              </a:rPr>
              <a:t>Fe-60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84" name=""/>
          <p:cNvSpPr/>
          <p:nvPr/>
        </p:nvSpPr>
        <p:spPr>
          <a:xfrm>
            <a:off x="-1041480" y="1879560"/>
            <a:ext cx="4546800" cy="34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4" marL="3435480" indent="-48924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5"/>
              </a:buBlip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13"/>
                </a:solidFill>
                <a:latin typeface="Savoye LET"/>
                <a:ea typeface="Savoye LET"/>
              </a:rPr>
              <a:t>Fe-52  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4" marL="3435480" indent="-48924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6"/>
              </a:buBlip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13"/>
                </a:solidFill>
                <a:latin typeface="Savoye LET"/>
                <a:ea typeface="Savoye LET"/>
              </a:rPr>
              <a:t>Fe-54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4" marL="3435480" indent="-48924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7"/>
              </a:buBlip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13"/>
                </a:solidFill>
                <a:latin typeface="Savoye LET"/>
                <a:ea typeface="Savoye LET"/>
              </a:rPr>
              <a:t>Fe-55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4" marL="3435480" indent="-48924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8"/>
              </a:buBlip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13"/>
                </a:solidFill>
                <a:latin typeface="Savoye LET"/>
                <a:ea typeface="Savoye LET"/>
              </a:rPr>
              <a:t>Fe-56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85" name=""/>
          <p:cNvSpPr/>
          <p:nvPr/>
        </p:nvSpPr>
        <p:spPr>
          <a:xfrm>
            <a:off x="6332400" y="3343680"/>
            <a:ext cx="33138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55"/>
                </a:solidFill>
                <a:latin typeface="Savoye LET"/>
                <a:ea typeface="Savoye LET"/>
              </a:rPr>
              <a:t>+ 2 ions</a:t>
            </a:r>
            <a:endParaRPr b="0" lang="en-US" sz="7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  <p:transition spd="slow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6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1282680" y="1079640"/>
            <a:ext cx="3720960" cy="372096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>
            <a:off x="4010040" y="2675520"/>
            <a:ext cx="889812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f5"/>
                </a:solidFill>
                <a:latin typeface="Party LET"/>
                <a:ea typeface="Party LET"/>
              </a:rPr>
              <a:t>Melting point:35˚C</a:t>
            </a:r>
            <a:endParaRPr b="0" lang="en-US" sz="7200" spc="-1" strike="noStrike">
              <a:solidFill>
                <a:srgbClr val="000000"/>
              </a:solidFill>
              <a:latin typeface="Savoye LET"/>
            </a:endParaRPr>
          </a:p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f5"/>
                </a:solidFill>
                <a:latin typeface="Party LET"/>
                <a:ea typeface="Party LET"/>
              </a:rPr>
              <a:t>Boiling point:2750˚F</a:t>
            </a:r>
            <a:endParaRPr b="0" lang="en-US" sz="7200" spc="-1" strike="noStrike">
              <a:solidFill>
                <a:srgbClr val="000000"/>
              </a:solidFill>
              <a:latin typeface="Savoye LET"/>
            </a:endParaRPr>
          </a:p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f5"/>
                </a:solidFill>
                <a:latin typeface="Party LET"/>
                <a:ea typeface="Party LET"/>
              </a:rPr>
              <a:t>Color:silver</a:t>
            </a:r>
            <a:endParaRPr b="0" lang="en-US" sz="7200" spc="-1" strike="noStrike">
              <a:solidFill>
                <a:srgbClr val="000000"/>
              </a:solidFill>
              <a:latin typeface="Savoye LET"/>
            </a:endParaRPr>
          </a:p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f5"/>
                </a:solidFill>
                <a:latin typeface="Party LET"/>
                <a:ea typeface="Party LET"/>
              </a:rPr>
              <a:t>Density:293 k</a:t>
            </a:r>
            <a:endParaRPr b="0" lang="en-US" sz="7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6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2351160" y="1155600"/>
            <a:ext cx="79884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1300ff"/>
                </a:solidFill>
                <a:latin typeface="Party LET"/>
                <a:ea typeface="Party LET"/>
              </a:rPr>
              <a:t>Who discovered iron???</a:t>
            </a:r>
            <a:endParaRPr b="0" lang="en-US" sz="7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89" name=""/>
          <p:cNvSpPr/>
          <p:nvPr/>
        </p:nvSpPr>
        <p:spPr>
          <a:xfrm>
            <a:off x="3048120" y="3276720"/>
            <a:ext cx="746748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2fc4"/>
                </a:solidFill>
                <a:latin typeface="Party LET"/>
                <a:ea typeface="Party LET"/>
              </a:rPr>
              <a:t>The element is unknown who discovered it and where they found it.</a:t>
            </a:r>
            <a:endParaRPr b="0" lang="en-US" sz="7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2082"/>
            </a:gs>
            <a:gs pos="100000">
              <a:srgbClr val="c957ff"/>
            </a:gs>
          </a:gsLst>
          <a:lin ang="15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2692440" y="901800"/>
            <a:ext cx="7289640" cy="3644640"/>
          </a:xfrm>
          <a:prstGeom prst="rect">
            <a:avLst/>
          </a:prstGeom>
          <a:ln w="0">
            <a:noFill/>
          </a:ln>
        </p:spPr>
      </p:pic>
      <p:sp>
        <p:nvSpPr>
          <p:cNvPr id="491" name=""/>
          <p:cNvSpPr/>
          <p:nvPr/>
        </p:nvSpPr>
        <p:spPr>
          <a:xfrm>
            <a:off x="2058840" y="5365800"/>
            <a:ext cx="8877600" cy="23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8ff24"/>
                </a:solidFill>
                <a:latin typeface="Party LET"/>
                <a:ea typeface="Party LET"/>
              </a:rPr>
              <a:t>Iron is used for glasses, roof’s, doctor supplies, and can goods.</a:t>
            </a:r>
            <a:endParaRPr b="0" lang="en-US" sz="64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  <p:transition spd="slow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5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3da5"/>
                </a:solidFill>
                <a:latin typeface="Party LET"/>
              </a:rPr>
              <a:t>Did you?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93" name=""/>
          <p:cNvSpPr/>
          <p:nvPr/>
        </p:nvSpPr>
        <p:spPr>
          <a:xfrm>
            <a:off x="3987720" y="3892680"/>
            <a:ext cx="4572000" cy="33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39"/>
                </a:solidFill>
                <a:latin typeface="Savoye LET"/>
                <a:ea typeface="Savoye LET"/>
              </a:rPr>
              <a:t>Did you know that iron runs through your blood.</a:t>
            </a:r>
            <a:endParaRPr b="0" lang="en-US" sz="7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ff41"/>
            </a:gs>
            <a:gs pos="100000">
              <a:srgbClr val="ff2082"/>
            </a:gs>
          </a:gsLst>
          <a:lin ang="714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3270240" y="692280"/>
            <a:ext cx="6451560" cy="83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0ff"/>
                </a:solidFill>
                <a:latin typeface="Party LET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c00ff"/>
                </a:solidFill>
                <a:latin typeface="Party LET"/>
                <a:ea typeface="Times New Roman"/>
              </a:rPr>
              <a:t>•</a:t>
            </a:r>
            <a:r>
              <a:rPr b="0" lang="en-US" sz="1400" spc="-1" strike="noStrike">
                <a:solidFill>
                  <a:srgbClr val="0c00ff"/>
                </a:solidFill>
                <a:latin typeface="Party LET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c00ff"/>
                </a:solidFill>
                <a:latin typeface="Party LET"/>
                <a:ea typeface="Times New Roman"/>
              </a:rPr>
              <a:t>"AISI | Steel in Your Life." AISI | Steel Industry - American Iron and Steel Institute. N.p., n.d. Web. 19 Nov. 2009. &lt;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Party LET"/>
                <a:ea typeface="Party LET"/>
                <a:hlinkClick r:id="rId1"/>
              </a:rPr>
              <a:t>http://www.steel.org/Content/NavigationMenu/ConsumerResources/SteelinYourLife/Steel_in_Your_Life.htm</a:t>
            </a:r>
            <a:r>
              <a:rPr b="0" lang="en-US" sz="1400" spc="-1" strike="noStrike">
                <a:solidFill>
                  <a:srgbClr val="0c00ff"/>
                </a:solidFill>
                <a:latin typeface="Party LET"/>
                <a:ea typeface="Times New Roman"/>
              </a:rPr>
              <a:t>&gt;. </a:t>
            </a:r>
            <a:endParaRPr b="0" lang="en-US" sz="1400" spc="-1" strike="noStrike">
              <a:solidFill>
                <a:srgbClr val="000000"/>
              </a:solidFill>
              <a:latin typeface="Savoye LET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0ff"/>
                </a:solidFill>
                <a:latin typeface="Party LET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c00ff"/>
                </a:solidFill>
                <a:latin typeface="Party LET"/>
                <a:ea typeface="Times New Roman"/>
              </a:rPr>
              <a:t>•</a:t>
            </a:r>
            <a:r>
              <a:rPr b="0" lang="en-US" sz="1400" spc="-1" strike="noStrike">
                <a:solidFill>
                  <a:srgbClr val="0c00ff"/>
                </a:solidFill>
                <a:latin typeface="Party LET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c00ff"/>
                </a:solidFill>
                <a:latin typeface="Party LET"/>
                <a:ea typeface="Times New Roman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0c00ff"/>
                </a:solidFill>
                <a:latin typeface="Party LET"/>
                <a:ea typeface="Times New Roman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c00ff"/>
                </a:solidFill>
                <a:latin typeface="Party LET"/>
                <a:ea typeface="Times New Roman"/>
              </a:rPr>
              <a:t>"Chemical Elements.com - An Interactive Periodic Table of the Elements." Chemical Elements.com - An Interactive Periodic Table of the Elements. N.p., n.d. Web. 18 Nov. 2009. &lt;</a:t>
            </a:r>
            <a:r>
              <a:rPr b="0" lang="en-US" sz="1400" spc="-1" strike="noStrike" u="sng">
                <a:solidFill>
                  <a:srgbClr val="0c00ff"/>
                </a:solidFill>
                <a:uFillTx/>
                <a:latin typeface="Party LET"/>
                <a:ea typeface="Party LET"/>
              </a:rPr>
              <a:t>http://www.chemicalelements.com/</a:t>
            </a:r>
            <a:r>
              <a:rPr b="0" lang="en-US" sz="1400" spc="-1" strike="noStrike">
                <a:solidFill>
                  <a:srgbClr val="0c00ff"/>
                </a:solidFill>
                <a:latin typeface="Party LET"/>
                <a:ea typeface="Times New Roman"/>
              </a:rPr>
              <a:t>&gt;. </a:t>
            </a:r>
            <a:endParaRPr b="0" lang="en-US" sz="1400" spc="-1" strike="noStrike">
              <a:solidFill>
                <a:srgbClr val="000000"/>
              </a:solidFill>
              <a:latin typeface="Savoye LET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0ff"/>
                </a:solidFill>
                <a:latin typeface="Party LET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c00ff"/>
                </a:solidFill>
                <a:latin typeface="Party LET"/>
                <a:ea typeface="Times New Roman"/>
              </a:rPr>
              <a:t>•</a:t>
            </a:r>
            <a:r>
              <a:rPr b="0" lang="en-US" sz="1400" spc="-1" strike="noStrike">
                <a:solidFill>
                  <a:srgbClr val="0c00ff"/>
                </a:solidFill>
                <a:latin typeface="Party LET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c00ff"/>
                </a:solidFill>
                <a:latin typeface="Party LET"/>
                <a:ea typeface="Times New Roman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0c00ff"/>
                </a:solidFill>
                <a:latin typeface="Party LET"/>
                <a:ea typeface="Times New Roman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c00ff"/>
                </a:solidFill>
                <a:latin typeface="Party LET"/>
                <a:ea typeface="Times New Roman"/>
              </a:rPr>
              <a:t>"Chemical Elements.com - Iron (Fe)." Chemical Elements.c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Party LET"/>
                <a:ea typeface="Times New Roman"/>
                <a:hlinkClick r:id="rId2"/>
              </a:rPr>
              <a:t>om - An Interactive Periodic Tab</a:t>
            </a:r>
            <a:r>
              <a:rPr b="0" lang="en-US" sz="1400" spc="-1" strike="noStrike" u="sng">
                <a:solidFill>
                  <a:srgbClr val="0c00ff"/>
                </a:solidFill>
                <a:uFillTx/>
                <a:latin typeface="Party LET"/>
                <a:ea typeface="Times New Roman"/>
              </a:rPr>
              <a:t>le of the Elements. N.p., n.d. Web. 18 Nov. 2009. &lt;</a:t>
            </a:r>
            <a:r>
              <a:rPr b="0" lang="en-US" sz="1400" spc="-1" strike="noStrike" u="sng">
                <a:solidFill>
                  <a:srgbClr val="0c00ff"/>
                </a:solidFill>
                <a:uFillTx/>
                <a:latin typeface="Party LET"/>
                <a:ea typeface="Party LET"/>
              </a:rPr>
              <a:t>http://www.chemicalelements.com/elements/fe.html</a:t>
            </a:r>
            <a:r>
              <a:rPr b="0" lang="en-US" sz="1400" spc="-1" strike="noStrike">
                <a:solidFill>
                  <a:srgbClr val="0c00ff"/>
                </a:solidFill>
                <a:latin typeface="Party LET"/>
                <a:ea typeface="Times New Roman"/>
              </a:rPr>
              <a:t>&gt;. </a:t>
            </a:r>
            <a:endParaRPr b="0" lang="en-US" sz="1400" spc="-1" strike="noStrike">
              <a:solidFill>
                <a:srgbClr val="000000"/>
              </a:solidFill>
              <a:latin typeface="Savoye LET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0ff"/>
                </a:solidFill>
                <a:latin typeface="Party LET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c00ff"/>
                </a:solidFill>
                <a:latin typeface="Party LET"/>
                <a:ea typeface="Times New Roman"/>
              </a:rPr>
              <a:t>•</a:t>
            </a:r>
            <a:r>
              <a:rPr b="0" lang="en-US" sz="1400" spc="-1" strike="noStrike">
                <a:solidFill>
                  <a:srgbClr val="0c00ff"/>
                </a:solidFill>
                <a:latin typeface="Party LET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c00ff"/>
                </a:solidFill>
                <a:latin typeface="Party LET"/>
                <a:ea typeface="Times New Roman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0c00ff"/>
                </a:solidFill>
                <a:latin typeface="Party LET"/>
                <a:ea typeface="Times New Roman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c00ff"/>
                </a:solidFill>
                <a:latin typeface="Party LET"/>
                <a:ea typeface="Times New Roman"/>
              </a:rPr>
              <a:t>"Chemical Elements.com - Iron (Fe)." Chemical Elements.com - An Interact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Party LET"/>
                <a:ea typeface="Times New Roman"/>
                <a:hlinkClick r:id="rId3"/>
              </a:rPr>
              <a:t>ive Periodic Table of the Elements. N.p., n.d. W</a:t>
            </a:r>
            <a:r>
              <a:rPr b="0" lang="en-US" sz="1400" spc="-1" strike="noStrike" u="sng">
                <a:solidFill>
                  <a:srgbClr val="0c00ff"/>
                </a:solidFill>
                <a:uFillTx/>
                <a:latin typeface="Party LET"/>
                <a:ea typeface="Times New Roman"/>
              </a:rPr>
              <a:t>eb. 19 Nov. 2009. &lt;</a:t>
            </a:r>
            <a:r>
              <a:rPr b="0" lang="en-US" sz="1400" spc="-1" strike="noStrike" u="sng">
                <a:solidFill>
                  <a:srgbClr val="0c00ff"/>
                </a:solidFill>
                <a:uFillTx/>
                <a:latin typeface="Party LET"/>
                <a:ea typeface="Party LET"/>
              </a:rPr>
              <a:t>http://www.chemicalelements.com/elements/fe.html</a:t>
            </a:r>
            <a:r>
              <a:rPr b="0" lang="en-US" sz="1400" spc="-1" strike="noStrike">
                <a:solidFill>
                  <a:srgbClr val="0c00ff"/>
                </a:solidFill>
                <a:latin typeface="Party LET"/>
                <a:ea typeface="Times New Roman"/>
              </a:rPr>
              <a:t>&gt;. </a:t>
            </a:r>
            <a:endParaRPr b="0" lang="en-US" sz="1400" spc="-1" strike="noStrike">
              <a:solidFill>
                <a:srgbClr val="000000"/>
              </a:solidFill>
              <a:latin typeface="Savoye LET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0ff"/>
                </a:solidFill>
                <a:latin typeface="Party LET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c00ff"/>
                </a:solidFill>
                <a:latin typeface="Party LET"/>
                <a:ea typeface="Times New Roman"/>
              </a:rPr>
              <a:t>•</a:t>
            </a:r>
            <a:r>
              <a:rPr b="0" lang="en-US" sz="1400" spc="-1" strike="noStrike">
                <a:solidFill>
                  <a:srgbClr val="0c00ff"/>
                </a:solidFill>
                <a:latin typeface="Party LET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c00ff"/>
                </a:solidFill>
                <a:latin typeface="Party LET"/>
                <a:ea typeface="Times New Roman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0c00ff"/>
                </a:solidFill>
                <a:latin typeface="Party LET"/>
                <a:ea typeface="Times New Roman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c00ff"/>
                </a:solidFill>
                <a:latin typeface="Party LET"/>
                <a:ea typeface="Times New Roman"/>
              </a:rPr>
              <a:t>"Chemical Elements.com - Iron (Fe)." Chemical Elements.com - An Interactive Periodic Table of the Elements. N.p., n.d. W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Party LET"/>
                <a:ea typeface="Times New Roman"/>
                <a:hlinkClick r:id="rId4"/>
              </a:rPr>
              <a:t>eb. 19 Nov. 2009. &lt;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Party LET"/>
                <a:ea typeface="Party LET"/>
                <a:hlinkClick r:id="rId5"/>
              </a:rPr>
              <a:t>http://www.chemicalelements.c</a:t>
            </a:r>
            <a:r>
              <a:rPr b="0" lang="en-US" sz="1400" spc="-1" strike="noStrike" u="sng">
                <a:solidFill>
                  <a:srgbClr val="0c00ff"/>
                </a:solidFill>
                <a:uFillTx/>
                <a:latin typeface="Party LET"/>
                <a:ea typeface="Party LET"/>
              </a:rPr>
              <a:t>om/elements/fe.html</a:t>
            </a:r>
            <a:r>
              <a:rPr b="0" lang="en-US" sz="1400" spc="-1" strike="noStrike">
                <a:solidFill>
                  <a:srgbClr val="0c00ff"/>
                </a:solidFill>
                <a:latin typeface="Party LET"/>
                <a:ea typeface="Times New Roman"/>
              </a:rPr>
              <a:t>&gt;. </a:t>
            </a:r>
            <a:endParaRPr b="0" lang="en-US" sz="1400" spc="-1" strike="noStrike">
              <a:solidFill>
                <a:srgbClr val="000000"/>
              </a:solidFill>
              <a:latin typeface="Savoye LET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0ff"/>
                </a:solidFill>
                <a:latin typeface="Party LET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c00ff"/>
                </a:solidFill>
                <a:latin typeface="Party LET"/>
                <a:ea typeface="Times New Roman"/>
              </a:rPr>
              <a:t>•</a:t>
            </a:r>
            <a:r>
              <a:rPr b="0" lang="en-US" sz="1400" spc="-1" strike="noStrike">
                <a:solidFill>
                  <a:srgbClr val="0c00ff"/>
                </a:solidFill>
                <a:latin typeface="Party LET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c00ff"/>
                </a:solidFill>
                <a:latin typeface="Party LET"/>
                <a:ea typeface="Times New Roman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0c00ff"/>
                </a:solidFill>
                <a:latin typeface="Party LET"/>
                <a:ea typeface="Times New Roman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c00ff"/>
                </a:solidFill>
                <a:latin typeface="Party LET"/>
                <a:ea typeface="Times New Roman"/>
              </a:rPr>
              <a:t>"Pictures, stories, and facts about the element Iron in the Periodic Table." The Photographic Periodic Table of the Elements. N.p., n.d. Web. 19 Nov. 2009. &lt;</a:t>
            </a:r>
            <a:r>
              <a:rPr b="0" lang="en-US" sz="1400" spc="-1" strike="noStrike" u="sng">
                <a:solidFill>
                  <a:srgbClr val="0c00ff"/>
                </a:solidFill>
                <a:uFillTx/>
                <a:latin typeface="Party LET"/>
                <a:ea typeface="Party LET"/>
              </a:rPr>
              <a:t>http://www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Party LET"/>
                <a:ea typeface="Party LET"/>
                <a:hlinkClick r:id="rId6"/>
              </a:rPr>
              <a:t>periodictable.com/Elements/026/index.html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Party LET"/>
                <a:ea typeface="Times New Roman"/>
                <a:hlinkClick r:id="rId7"/>
              </a:rPr>
              <a:t>&gt;. </a:t>
            </a:r>
            <a:endParaRPr b="0" lang="en-US" sz="1400" spc="-1" strike="noStrike">
              <a:solidFill>
                <a:srgbClr val="000000"/>
              </a:solidFill>
              <a:latin typeface="Savoye LET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Party LET"/>
                <a:ea typeface="Times New Roman"/>
                <a:hlinkClick r:id="rId8"/>
              </a:rPr>
              <a:t>	•	</a:t>
            </a:r>
            <a:r>
              <a:rPr b="0" lang="en-US" sz="1400" spc="-1" strike="noStrike" u="sng">
                <a:solidFill>
                  <a:srgbClr val="0c00ff"/>
                </a:solidFill>
                <a:uFillTx/>
                <a:latin typeface="Party LET"/>
                <a:ea typeface="Times New Roman"/>
              </a:rPr>
              <a:t> </a:t>
            </a:r>
            <a:br>
              <a:rPr sz="1400"/>
            </a:br>
            <a:r>
              <a:rPr b="0" lang="en-US" sz="1400" spc="-1" strike="noStrike" u="sng">
                <a:solidFill>
                  <a:srgbClr val="0c00ff"/>
                </a:solidFill>
                <a:uFillTx/>
                <a:latin typeface="Party LET"/>
                <a:ea typeface="Times New Roman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 u="sng">
                <a:solidFill>
                  <a:srgbClr val="0c00ff"/>
                </a:solidFill>
                <a:uFillTx/>
                <a:latin typeface="Party LET"/>
                <a:ea typeface="Times New Roman"/>
              </a:rPr>
              <a:t>"periodic table." world book. N.p., n.d. Web. 18 Nov. 2009. &lt;</a:t>
            </a:r>
            <a:r>
              <a:rPr b="0" lang="en-US" sz="1400" spc="-1" strike="noStrike" u="sng">
                <a:solidFill>
                  <a:srgbClr val="0c00ff"/>
                </a:solidFill>
                <a:uFillTx/>
                <a:latin typeface="Party LET"/>
                <a:ea typeface="Party LET"/>
              </a:rPr>
              <a:t>http://www.worldbookonline.com/student/media?id=lr005764</a:t>
            </a:r>
            <a:r>
              <a:rPr b="0" lang="en-US" sz="1400" spc="-1" strike="noStrike">
                <a:solidFill>
                  <a:srgbClr val="0c00ff"/>
                </a:solidFill>
                <a:latin typeface="Party LET"/>
                <a:ea typeface="Times New Roman"/>
              </a:rPr>
              <a:t>&gt;.</a:t>
            </a:r>
            <a:endParaRPr b="0" lang="en-US" sz="14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